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00077"/>
        <c:axId val="83266605"/>
      </c:barChart>
      <c:catAx>
        <c:axId val="98800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66605"/>
        <c:crosses val="autoZero"/>
        <c:auto val="1"/>
        <c:lblAlgn val="ctr"/>
        <c:lblOffset val="100"/>
        <c:noMultiLvlLbl val="0"/>
      </c:catAx>
      <c:valAx>
        <c:axId val="83266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00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7E0-E917-46CB-8B86-347A4F84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A39-D563-4174-ACEE-03172F7B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A93-43CB-4494-996E-FDB141C8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428-4A02-4766-AF36-0D23602C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8CF-53E7-46F2-9E40-0C9A3CDA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25A-5227-4DE6-948A-2B7D475F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1DC-123A-44F0-A7CB-5A123BC1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577-3A19-49A3-9449-E0604A8D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211-E33D-4B06-AB38-53C43EFA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11B-24B7-492C-9E22-676DCA34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CF1-8FF8-45DC-AB7D-12A44FB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BA9-D65C-48AD-B376-4AE47BE9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F0B05-16F2-4608-B044-5232A73F40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