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33260"/>
        <c:axId val="85171565"/>
      </c:barChart>
      <c:catAx>
        <c:axId val="74133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71565"/>
        <c:crosses val="autoZero"/>
        <c:auto val="1"/>
        <c:lblAlgn val="ctr"/>
        <c:lblOffset val="100"/>
        <c:noMultiLvlLbl val="0"/>
      </c:catAx>
      <c:valAx>
        <c:axId val="85171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33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710-166C-4A9A-B76A-64023A23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F30-D269-4FAD-849F-D172BC8F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0CA-2768-413A-8077-65A5D6A5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AB4-28D4-4BB2-9702-2CCB554F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8F6-5C31-4EBA-A722-6B69CAA3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220-DE30-46A6-9F78-4E0B5BE0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F8E-DED7-46D7-9BE3-AAC0EADC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B5E6-18C6-4A1E-8B05-66AEFDB9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3E5-0491-4452-BA8D-0C4B2F92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DE6-ACFA-4DCC-9A58-EA7A7F4E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4FE-5BDC-4C62-8409-DCE45EEB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3BF-26E1-4C02-BE16-84C5B6B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69BF5-E674-4FBF-8D52-E43A2715CD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