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9196"/>
        <c:axId val="48014333"/>
      </c:barChart>
      <c:catAx>
        <c:axId val="6889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14333"/>
        <c:crosses val="autoZero"/>
        <c:auto val="1"/>
        <c:lblAlgn val="ctr"/>
        <c:lblOffset val="100"/>
        <c:noMultiLvlLbl val="0"/>
      </c:catAx>
      <c:valAx>
        <c:axId val="48014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9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F93-A599-47C5-8ED6-F668403D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D17-3022-46B5-9DDF-FB79C6AB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BDD-821A-4E81-B645-CAB6B74C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885-3E67-4FA5-A56D-E4C48197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D22-F0E7-4980-A01D-011B5E5F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960-AE5A-4B22-B87D-98107064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87D-1B22-4BB9-8C97-F4D5EAFB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570-42C6-4D16-AF0C-BCB452C7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523-33F8-4A41-81E9-CD07CD3C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0763-1F68-4954-A1A6-55A9C470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9F5-45D2-4702-ACCD-E445DBEE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B35-19CE-4C41-AB52-225DFAD9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B2B21-B355-412A-80B5-89B66374BC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