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69868"/>
        <c:axId val="67681887"/>
      </c:barChart>
      <c:catAx>
        <c:axId val="704698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81887"/>
        <c:crosses val="autoZero"/>
        <c:auto val="1"/>
        <c:lblAlgn val="ctr"/>
        <c:lblOffset val="100"/>
        <c:noMultiLvlLbl val="0"/>
      </c:catAx>
      <c:valAx>
        <c:axId val="67681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698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7E80-24FA-450E-B2E7-18B79ADB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FF49-7B41-4875-A388-1E6F08D1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FC88-2B53-4365-8565-69B6C5B3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3B8B-AA32-40DF-94AC-08364E33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4E2A-5885-4745-8718-974C074B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BFD9-ADD1-45C8-B164-BC249B1B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A766-C970-401D-8FFE-7B9DEF99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D266-3FF5-4C93-BE5D-5B9D9342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5B0C-F5F4-417B-AB22-8C91AD2D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690-1C4F-44D8-A205-DFE56213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4EAA-C619-4BE1-B825-0ACE58DD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3241-C440-429B-AE69-E9FDF663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7185D-FC9B-46FF-AF75-19F82526CC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