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BE3-B0E5-42FF-A80C-94C8A3DB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DE0-A634-47DC-B612-736D20AAF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F3C1-2C87-4E2F-AE15-77C5E42C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6EF-C73A-4E6E-8A4A-932D46A54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77E3-BD50-4FB9-B12F-284C1A92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507D-05F8-47D2-8B9D-A96E1431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3025-5374-45AF-A3D4-E7FB6106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5199-4B19-4EF7-A584-FB23C88C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7C9EF-6F38-43FB-AE23-1142C585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8B9E-1B96-49A0-8475-892FB80D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D141-5B23-4191-A4FD-59638D6F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D647-8847-4E7E-983B-E04F9F66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CDFD-6789-40D0-A513-31F25DB5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797D-BA84-420A-AD81-09C4C893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85CE-33AA-4615-B73E-A95974470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5AEF-A83E-4B0A-AFE5-66EC8119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C9D4-2C00-413A-9AAC-1AF43108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7410-1F61-483F-869E-5AE3938C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8A7-599E-4B88-A67A-712B93D6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E18C-2094-4354-B485-15623A61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0160" y="2133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12A4-4201-442F-AFF2-B0D2DE8E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744F-1923-44BE-A4EB-82398BC7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2D4-CB9D-4A5F-BC7F-05C5C2EF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FE35-22B2-4511-B6A4-57611858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AF56-F1CD-4221-9E16-8073D237B8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2D235-BED7-4D6F-96C4-6D81D8F97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2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2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i="1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676520" y="304920"/>
            <a:ext cx="6400800" cy="579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3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60093"/>
                </a:solidFill>
                <a:latin typeface="Times New Roman"/>
              </a:rPr>
              <a:t>L V M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Logical Volume Manager for Linux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3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inz Mauelshag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linux.LVM@ez-darmstadt.telekom.d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/02/1999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 and 1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600200" y="2666880"/>
            <a:ext cx="5943600" cy="2743200"/>
            <a:chOff x="1600200" y="2666880"/>
            <a:chExt cx="5943600" cy="2743200"/>
          </a:xfrm>
        </p:grpSpPr>
        <p:sp>
          <p:nvSpPr>
            <p:cNvPr id="154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0" name=""/>
          <p:cNvGrpSpPr/>
          <p:nvPr/>
        </p:nvGrpSpPr>
        <p:grpSpPr>
          <a:xfrm>
            <a:off x="1828800" y="3657600"/>
            <a:ext cx="5486400" cy="1676520"/>
            <a:chOff x="1828800" y="3657600"/>
            <a:chExt cx="5486400" cy="1676520"/>
          </a:xfrm>
        </p:grpSpPr>
        <p:sp>
          <p:nvSpPr>
            <p:cNvPr id="161" name=""/>
            <p:cNvSpPr/>
            <p:nvPr/>
          </p:nvSpPr>
          <p:spPr>
            <a:xfrm>
              <a:off x="1828800" y="4724280"/>
              <a:ext cx="5486400" cy="609840"/>
            </a:xfrm>
            <a:prstGeom prst="ellipse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28800" y="4035600"/>
              <a:ext cx="5486400" cy="993600"/>
            </a:xfrm>
            <a:prstGeom prst="rect">
              <a:avLst/>
            </a:prstGeom>
            <a:gradFill rotWithShape="0">
              <a:gsLst>
                <a:gs pos="0">
                  <a:srgbClr val="7834b1"/>
                </a:gs>
                <a:gs pos="50000">
                  <a:srgbClr val="ad4cff"/>
                </a:gs>
                <a:gs pos="100000">
                  <a:srgbClr val="7834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28800" y="3657600"/>
              <a:ext cx="5486400" cy="685800"/>
            </a:xfrm>
            <a:prstGeom prst="ellipse">
              <a:avLst/>
            </a:prstGeom>
            <a:gradFill rotWithShape="0">
              <a:gsLst>
                <a:gs pos="0">
                  <a:srgbClr val="ad4cff"/>
                </a:gs>
                <a:gs pos="100000">
                  <a:srgbClr val="7834b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4218480" y="5456160"/>
            <a:ext cx="727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106600" y="5106960"/>
            <a:ext cx="531720" cy="608040"/>
          </a:xfrm>
          <a:prstGeom prst="line">
            <a:avLst/>
          </a:prstGeom>
          <a:ln w="25560">
            <a:solidFill>
              <a:srgbClr val="ad4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75400" y="2986200"/>
            <a:ext cx="1413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cccc"/>
                </a:solidFill>
                <a:latin typeface="Times New Roman"/>
              </a:rPr>
              <a:t>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568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1400" y="2833560"/>
            <a:ext cx="1368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b2b2b2"/>
                </a:solidFill>
                <a:latin typeface="Times New Roman"/>
              </a:rPr>
              <a:t>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PV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change - change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pvcreate   - initializes VGDA on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ata      - displays VGDA (debugg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display - shows P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move    - moves PEs/LEs between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vscan      - searches for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backu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oes a VGDA back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fgrestor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tores VGDA to a P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hang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hange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ck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eck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s a new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s VG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VG „un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ext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a 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impo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ake a VG „known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er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merge two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mknode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reate device speci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duc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duceVG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empty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VG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V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vgscan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search for VG(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spli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plit a VG into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2fsadm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extend or reduce LVs with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included ext2 Dateisyste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(resize2fs neede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hange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create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- create a new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displa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how LV attrib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extend          - extend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 Command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duce          - reduce LV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mov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delete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renam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name an inactive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LVM Command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chang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set LVM in case of a test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emergenc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diskscan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search for disks, disk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partitions or multipl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dev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dc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collect LV read/write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vmsar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report of collected LV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statistic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304920" bIns="30492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9 VGs ma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56 LVs total (8 bit minor #) in all V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PEs to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p to 65534 LEs per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/LE sizes between several KB 8*) and G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1000 TB but limited by int variables in the Linux I/O subsystem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oftware Metrics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800 hours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than 34000 LOC (Lines Of Code) including all sources, comments, manual pages, scripts, makefiles, READMEs, 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29000 LOC sour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ul/driver with 3200 LO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2 library functions in 127 source modu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5 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Goal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flexible I/O-system extension for Linux to gain a virtual view on mass sto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exible scaling of mass storage capacities in wide r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sion and reduction of storage without system interrup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ease it GNU licen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2025720"/>
            <a:ext cx="8262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1905120"/>
            <a:ext cx="7848720" cy="62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 a VG “test” with 2 PVs (/dev/sd[kl]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 1 LV “tlv” containing an EXT2F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k       #  set partition type identifier to0xF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fdisk /dev/sdl       #                  “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create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k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create -- physical volume “/dev/sdl1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create test /dev/sd[kl]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using default physical extent size of 4 MB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INFO: maximum logical volume size is 256 Gigaby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create -- volume group “test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stored on /dev/sd[kl]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racter special file /dev/test/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backup stored in /etc/lvmconf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name added to /etc/lvmtab and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DA is loaded into the driver so that VG “test” can be acce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continued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5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lvcreate -L 300 -n tlv test #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create -- logical volume “/dev/test/tlv” successfully creat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ke2fs 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ke2fs 1.10, 24-Apr-97 for EXT2 FS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Writing superblocks and filesystem accounting information: d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mount /dev/test/tlv /usr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ffff"/>
                </a:solidFill>
                <a:latin typeface="Courier New"/>
              </a:rPr>
              <a:t>. . . 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ock special file /dev/test/tlv mapping a size of 300 M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working copy stored in /etc/lvmtab.d/te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etc/lvmtab.d/test.conf renamed to /etc/lvmtab.d/test.conf.o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backup  of VGDA stored in  /etc/lvmtab.d/test.con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nged VGDA loaded into the driver to be able to access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unted EXT2 filesystem in /dev/test/t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8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508 / 5.891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play attributes of  VG “test”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verbos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Logical volume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test/tl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ope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rent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ed L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ation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ext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lock devic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8: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2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ourier New"/>
              </a:rPr>
              <a:t>to be continued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e the LEs of LV /dev/test/tlv away from PV /dev/sdk1 to PV /dev/sdl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pvmove -f /dev/sdk1    # /dev/sdl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moving physical extents in active volume group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move -- 75 extents of physical volume successfully mov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-v te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SNIP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Physical volumes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k1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74 / 10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Name (#)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dev/sdl1 (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V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 / alloca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 / Free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 / 43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1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age of physical disks, disk partitions or multiple devices as  PVs (Physical Volumes; basic allocation device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ther PVs in VGs (Volume Groups; virtual disk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ocation of VG storage to LVs (Logical Volumes; virtual partitions) in basic units called PEs (Physical Exten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905120"/>
            <a:ext cx="7554960" cy="31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uce VG “test” by the free PV /dev/sdk1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reduce test /dev/sdk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doing automatic backup of “tes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reduce -- “test” successfully reduc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Example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Results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 vgdisplay 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- Volume group 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Nam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Write Acces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ad/wri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tatu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vailable/extend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#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Open L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LV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X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25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ur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ct PV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G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6.184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E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tal P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50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oc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75 / 300 M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ee PE / Siz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434 / 1.7 G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The Future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lementation of RAID1/5/10/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oot-filesystem in a L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grate driver into Linux 2.3 kern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ssociate UUIDs (Uniform Unique Identifiers) to VGs and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VGDA by additional attributes like LV creation time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Who and Where?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LVM software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linux.msede.com/lv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Mail-list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msede.com (majordom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60093"/>
                </a:solidFill>
                <a:latin typeface="Times New Roman"/>
              </a:rPr>
              <a:t>Author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nux-lvm@ez-darmstadt.telekom.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07880" y="1905120"/>
            <a:ext cx="67071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0" spc="-1" strike="noStrike">
                <a:solidFill>
                  <a:srgbClr val="00cccc"/>
                </a:solidFill>
                <a:latin typeface="Times New Roman"/>
              </a:rPr>
              <a:t>Thank you :-)</a:t>
            </a:r>
            <a:endParaRPr b="0" i="1" lang="en-US" sz="8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2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address space of the LVs in units of LEs (Logical Extents; kind of block) to the PEs on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tend and reduce VGs and LVs onl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LVs like disks, disk partitions or multiple devices for filesystems, databases et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3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ess VGs and LVs via device special files named /dev/VolumeGroupName/*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ore configuration information (VGDA or Volume Group Descriptor Area) on each PV of a VG and for performance reasons in a working copy on file in /etc/lvmtab.d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GDA holds all the attributes of the PV, VG, LVs and the allocation of the 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4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p the LEs (Logical Extents) of LVs to the PEs of the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ld the attributes and the mapping tables in a LVM driver (loadable as a module to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calls to the mapping function of the driver in “/usr/src/linux/drivers/block/ll_rw_blk.c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Concept</a:t>
            </a:r>
            <a:r>
              <a:rPr b="0" i="1" lang="en-US" sz="5400" spc="-1" strike="noStrike" baseline="-25000">
                <a:solidFill>
                  <a:srgbClr val="00cccc"/>
                </a:solidFill>
                <a:latin typeface="Times New Roman"/>
              </a:rPr>
              <a:t>5</a:t>
            </a:r>
            <a:endParaRPr b="0" i="1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ild a command and a library layer to ease the integration of different or additional tools or graphical user interfa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rt and import VGs to bring them to or get them from different computer syst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linear and striped (RAID0) L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786200" y="2819520"/>
            <a:ext cx="2438280" cy="2361960"/>
            <a:chOff x="4786200" y="2819520"/>
            <a:chExt cx="2438280" cy="2361960"/>
          </a:xfrm>
        </p:grpSpPr>
        <p:sp>
          <p:nvSpPr>
            <p:cNvPr id="127" name=""/>
            <p:cNvSpPr/>
            <p:nvPr/>
          </p:nvSpPr>
          <p:spPr>
            <a:xfrm>
              <a:off x="4786200" y="46483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86200" y="3124080"/>
              <a:ext cx="2438280" cy="182880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86200" y="2819520"/>
              <a:ext cx="2438280" cy="5331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133720" y="2819520"/>
            <a:ext cx="2438280" cy="2377440"/>
            <a:chOff x="2133720" y="2819520"/>
            <a:chExt cx="2438280" cy="2377440"/>
          </a:xfrm>
        </p:grpSpPr>
        <p:sp>
          <p:nvSpPr>
            <p:cNvPr id="131" name=""/>
            <p:cNvSpPr/>
            <p:nvPr/>
          </p:nvSpPr>
          <p:spPr>
            <a:xfrm>
              <a:off x="2133720" y="466056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33720" y="3125880"/>
              <a:ext cx="2438280" cy="1841040"/>
            </a:xfrm>
            <a:prstGeom prst="rect">
              <a:avLst/>
            </a:prstGeom>
            <a:gradFill rotWithShape="0">
              <a:gsLst>
                <a:gs pos="0">
                  <a:srgbClr val="7b7b7b"/>
                </a:gs>
                <a:gs pos="50000">
                  <a:srgbClr val="b2b2b2"/>
                </a:gs>
                <a:gs pos="100000">
                  <a:srgbClr val="7b7b7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33720" y="2819520"/>
              <a:ext cx="2438280" cy="5364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7b7b7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430440" y="5335560"/>
            <a:ext cx="2284200" cy="700560"/>
            <a:chOff x="3430440" y="5335560"/>
            <a:chExt cx="2284200" cy="700560"/>
          </a:xfrm>
        </p:grpSpPr>
        <p:sp>
          <p:nvSpPr>
            <p:cNvPr id="135" name=""/>
            <p:cNvSpPr/>
            <p:nvPr/>
          </p:nvSpPr>
          <p:spPr>
            <a:xfrm>
              <a:off x="3996000" y="5456160"/>
              <a:ext cx="116964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2 PV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0660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430440" y="5335560"/>
              <a:ext cx="608040" cy="379440"/>
            </a:xfrm>
            <a:prstGeom prst="line">
              <a:avLst/>
            </a:prstGeom>
            <a:ln w="255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47628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cccc"/>
                </a:solidFill>
                <a:latin typeface="Times New Roman"/>
              </a:rPr>
              <a:t>Storage Architectur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G with 2 PV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00200" y="2666880"/>
            <a:ext cx="5943600" cy="3369240"/>
            <a:chOff x="1600200" y="2666880"/>
            <a:chExt cx="5943600" cy="3369240"/>
          </a:xfrm>
        </p:grpSpPr>
        <p:sp>
          <p:nvSpPr>
            <p:cNvPr id="141" name=""/>
            <p:cNvSpPr/>
            <p:nvPr/>
          </p:nvSpPr>
          <p:spPr>
            <a:xfrm>
              <a:off x="1600200" y="4630680"/>
              <a:ext cx="5943600" cy="779400"/>
            </a:xfrm>
            <a:prstGeom prst="ellipse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00200" y="3121200"/>
              <a:ext cx="5943600" cy="1908000"/>
            </a:xfrm>
            <a:prstGeom prst="rect">
              <a:avLst/>
            </a:prstGeom>
            <a:gradFill rotWithShape="0">
              <a:gsLst>
                <a:gs pos="0">
                  <a:srgbClr val="008d8d"/>
                </a:gs>
                <a:gs pos="50000">
                  <a:srgbClr val="00cccc"/>
                </a:gs>
                <a:gs pos="100000">
                  <a:srgbClr val="008d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1600200" y="2666880"/>
              <a:ext cx="5943600" cy="838440"/>
              <a:chOff x="1600200" y="2666880"/>
              <a:chExt cx="5943600" cy="838440"/>
            </a:xfrm>
          </p:grpSpPr>
          <p:sp>
            <p:nvSpPr>
              <p:cNvPr id="144" name=""/>
              <p:cNvSpPr/>
              <p:nvPr/>
            </p:nvSpPr>
            <p:spPr>
              <a:xfrm>
                <a:off x="1600200" y="2666880"/>
                <a:ext cx="5943600" cy="838440"/>
              </a:xfrm>
              <a:prstGeom prst="ellipse">
                <a:avLst/>
              </a:prstGeom>
              <a:gradFill rotWithShape="0">
                <a:gsLst>
                  <a:gs pos="0">
                    <a:srgbClr val="00cccc"/>
                  </a:gs>
                  <a:gs pos="100000">
                    <a:srgbClr val="008d8d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7200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133720" y="2819520"/>
                <a:ext cx="2438280" cy="5331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7b7b7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4195080" y="5456160"/>
              <a:ext cx="77328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V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06760" y="5106960"/>
              <a:ext cx="531720" cy="608040"/>
            </a:xfrm>
            <a:prstGeom prst="line">
              <a:avLst/>
            </a:prstGeom>
            <a:ln w="255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568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71400" y="2833560"/>
              <a:ext cx="1368000" cy="57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b2b2b2"/>
                  </a:solidFill>
                  <a:latin typeface="Times New Roman"/>
                </a:rPr>
                <a:t>PV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einz Mauelshagen "Logical Volume Manager"   20/02/1999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9:48Z</dcterms:created>
  <dc:creator>telekom</dc:creator>
  <dc:description/>
  <dc:language>en-US</dc:language>
  <cp:lastModifiedBy>Heinz Mauelshagen</cp:lastModifiedBy>
  <cp:lastPrinted>1998-05-28T18:02:56Z</cp:lastPrinted>
  <dcterms:modified xsi:type="dcterms:W3CDTF">1999-02-21T19:15:18Z</dcterms:modified>
  <cp:revision>293</cp:revision>
  <dc:subject/>
  <dc:title>Vorstellung einer Neuhei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linux.msede.com/lvm</vt:lpwstr>
  </property>
  <property fmtid="{D5CDD505-2E9C-101B-9397-08002B2CF9AE}" pid="9" name="LinkColor">
    <vt:r8>16711782</vt:r8>
  </property>
  <property fmtid="{D5CDD505-2E9C-101B-9397-08002B2CF9AE}" pid="10" name="MailAddress">
    <vt:lpwstr>linux-lvm@ez-darmstadt.telekom.de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Eigene Dateien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