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54298"/>
        <c:axId val="16181512"/>
      </c:barChart>
      <c:catAx>
        <c:axId val="46154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1512"/>
        <c:crosses val="autoZero"/>
        <c:auto val="1"/>
        <c:lblAlgn val="ctr"/>
        <c:lblOffset val="100"/>
        <c:noMultiLvlLbl val="0"/>
      </c:catAx>
      <c:valAx>
        <c:axId val="16181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4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A33-BB3D-45B5-B41C-C71A15AA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2E1-9A3A-407C-9755-E5DB5C8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CFA-3DFA-4F7A-9B2E-8AEFED2F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C20-0778-496F-9C5D-2E8EDABF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7E2-E941-4A15-AD20-095F56F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B2B-228C-4364-921C-2DDBFB17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2B5-81C2-4B37-9A5D-AEB1BAF0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11B-7F4C-4037-80E5-1D8E9FA6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B76-8B44-4C2E-B800-4F429097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DBB-94D0-4280-BC5A-0296E17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85F-C8FE-4E9E-B550-6635AD5A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DAD-EB6B-4720-AD9C-C16B2604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5FD40-AE57-4125-91F7-5C7F135619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