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10675"/>
        <c:axId val="11146382"/>
      </c:barChart>
      <c:catAx>
        <c:axId val="60106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46382"/>
        <c:crosses val="autoZero"/>
        <c:auto val="1"/>
        <c:lblAlgn val="ctr"/>
        <c:lblOffset val="100"/>
        <c:noMultiLvlLbl val="0"/>
      </c:catAx>
      <c:valAx>
        <c:axId val="11146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06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DCD4-44D3-4B39-A8E1-16F37C62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D175-6963-4504-8D79-41B6C6C7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3E19-F37E-4DDF-A46F-C31980AF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7AF3-20DF-4115-AF93-07C1E674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40D-BDD4-4104-A306-29A38C35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4B0A-77D3-4969-96B3-B42E56BF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1BBA-22B1-4992-A592-802E2D9E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3A7C-673B-4D03-91A1-84EDA492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9B33-8A70-477E-8D3C-ABD3DD30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9A4-0546-4F65-B1A5-103A5EB1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5922-121E-4C48-BBC5-5062AE58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1B2-FC5D-43CF-BCC1-DA7F0B5A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97528-B439-4C25-8F2A-391F0885F9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