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6806"/>
        <c:axId val="15517496"/>
      </c:barChart>
      <c:catAx>
        <c:axId val="586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17496"/>
        <c:crosses val="autoZero"/>
        <c:auto val="1"/>
        <c:lblAlgn val="ctr"/>
        <c:lblOffset val="100"/>
        <c:noMultiLvlLbl val="0"/>
      </c:catAx>
      <c:valAx>
        <c:axId val="155174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0D0-F767-4540-A6C5-3BE31387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A51-16CA-482D-A15E-A5EB0ACA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1BA-E95E-4B61-9717-71BF2982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6E4-26E3-459B-9166-3D8F6178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B0C-8247-40AF-95A0-0D2A8C97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4C2-2691-46CB-8026-904265FE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0CA-A85C-4248-98C8-5BD9279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FB2B-475C-492A-A27D-842031CD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D08-A89A-4FB6-B8A6-B46CAE62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57E-4C48-4FD5-AEE3-480E467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4E4-7728-4D4F-B231-3AB3CB15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FE5-8546-4659-8C49-10CBBEE3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3D65-8E02-4435-A03A-6777610698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