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9566"/>
        <c:axId val="6341237"/>
      </c:barChart>
      <c:catAx>
        <c:axId val="5059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1237"/>
        <c:crosses val="autoZero"/>
        <c:auto val="1"/>
        <c:lblAlgn val="ctr"/>
        <c:lblOffset val="100"/>
        <c:noMultiLvlLbl val="0"/>
      </c:catAx>
      <c:valAx>
        <c:axId val="6341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9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C20-E159-495C-9996-D7DC47CD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0A5-C10B-48E2-8EF6-EB212E7E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400-4B92-4AA3-92BE-C0B67AF8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F11-5FB9-4AE5-A401-A2041067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502-F307-4519-8D20-3D76824A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F17-6727-4EE3-855D-5EF8C0CE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ED7-6AAF-4E06-BD95-CD8ED1FD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AB2-6E68-49D1-BE73-F0F4EC22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E5B-2AF2-4E39-9EFB-0FC052FF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8DF-8803-4290-9F62-D9FB78E2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065-3A31-4839-8C1E-37FADC7C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856-CED2-4FA3-B184-58DFE694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80055-7471-4B1B-A401-C896455A2C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